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EDA-CD97-4846-8823-47969E5B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C66-7976-42D1-93FA-0F6D91EC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A88-AE6E-4809-AE7A-D1B63EF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1F4-D912-46A2-93D9-AC4DF257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9202-26DE-4961-9CC6-CF063C6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13B-E396-4A55-AA82-DADA41E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7BEE-26EC-4132-A78A-6DBA363C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3ECC-D576-4F04-80BF-68C5A01A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75D-0160-4696-A913-692D4D27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089-58E7-4D51-86E5-0BB79DF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32DE-0BC5-4D69-BEBF-C91A271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94B-6867-4A88-8D38-BEDC9AF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F03-60CF-42E5-8F5B-73C35FC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6466-9749-4BDB-B4B0-AD30A4A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59E4-123E-4E17-8C49-79FB8FE6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FE8-2893-4A3C-AE5B-1FB60D3B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4AEC-5AF5-40B7-9270-7FFA31F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9D1-7318-4D88-BB14-F2A50FE3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B7F-13F0-47D6-91CD-D2C2B00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A6C-66E5-44D7-9B5D-9FF4750C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09D-786C-4B72-8960-AB42955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4D8-00A1-42F8-997F-B861280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2C7-6333-4E86-8972-347C5F7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F6D-4494-4FC6-84C4-3FC250F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F17-E677-45B3-86AE-E27AA3C36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4B05-8667-4312-9700-E27FF8CA6B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Arial"/>
              </a:rPr>
              <a:t>Демократия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арламент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высший законодательный и представительный орган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няя па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вет Федерации – формируется из числа представителей избранных законодательными собраниями субъектов РФ, а также назначенных главами исполнительной власти субъектов РФ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жняя па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осударственная Дума – выборы осуществляются по партийным спискам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бирательные систе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Мажоритарная избирательн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я территория страны делится на округа. От каждого округа избирается один или несколько депутатов. Избранным считается депутат, который набрал большинство голосов по данному окру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яют две разновидности мажоритарной избирательной системы: абсолютного большинства (50%+1), относительного большинства (побеждает тот кто набрал голосов больше чем соперник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бирательные систем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ропорциональ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и предыдущая предполагает наличие округов. От каждого округа избирается несколько кандид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депутатов в парламенте распределяется пропорционально числу завоеванных гол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арламентские фракц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артии большинств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артии меньшинства (оппозиция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блемы современной демократ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бор депутатов в законодательные органы производится самими политическими пар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 финансирования избирательной комп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кратия на деле не всегда может обеспечить равное участие граждан в выбо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удности в области международ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дведем итог и ответим на вопрос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итературе часто происходит отождествление понятий система и режим. Например, речь может идти о сталинском режиме и одновременно о созданной «великим вождем» политической сис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колько корректным является подобное отождест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ринципы и ценности демократи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арламентариз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Tahoma"/>
              </a:rPr>
              <a:t>Проблемы современной демократ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итературе часто происходит отождествление понятий система и режим. Например, речь может идти о сталинском режиме и одновременно о созданной «великим вождем» политической сис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колько корректным является подобное отождест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емократ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литическая система, в которой политическая власть осуществляется свободно выражающим свою волю большинством граждан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ы и ценности демократи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овлас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большин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ажение прав меньшин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олитического плюра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с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авового и политического равенства гражд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мократическая политическая культура гражд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родовласт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2" name="Organization Chart 7"/>
          <p:cNvGrpSpPr/>
          <p:nvPr/>
        </p:nvGrpSpPr>
        <p:grpSpPr>
          <a:xfrm>
            <a:off x="910440" y="2047680"/>
            <a:ext cx="7790400" cy="2744640"/>
            <a:chOff x="910440" y="2047680"/>
            <a:chExt cx="7790400" cy="274464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5726880" y="2403720"/>
              <a:ext cx="229320" cy="207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3655440" y="2403360"/>
              <a:ext cx="229320" cy="207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5" name="_s1030"/>
            <p:cNvSpPr/>
            <p:nvPr/>
          </p:nvSpPr>
          <p:spPr>
            <a:xfrm>
              <a:off x="1872360" y="2047680"/>
              <a:ext cx="5866560" cy="127800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0066"/>
                  </a:solidFill>
                  <a:latin typeface="Tahoma"/>
                  <a:ea typeface="Arial"/>
                </a:rPr>
                <a:t>Референдум</a:t>
              </a:r>
              <a:r>
                <a:rPr b="0" lang="ru-RU" sz="1500" spc="-1" strike="noStrike">
                  <a:solidFill>
                    <a:srgbClr val="ffffff"/>
                  </a:solidFill>
                  <a:latin typeface="Tahoma"/>
                  <a:ea typeface="Arial"/>
                </a:rPr>
                <a:t>- </a:t>
              </a: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форма осуществления волеизъявлени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граждан, выражающаяся в голосовании по наиболе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 </a:t>
              </a: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значимым вопросам общегосударственного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99"/>
                  </a:solidFill>
                  <a:latin typeface="Tahoma"/>
                  <a:ea typeface="Arial"/>
                </a:rPr>
                <a:t>регионального или местного масштаба.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910440" y="3554280"/>
              <a:ext cx="3647880" cy="123804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оддержка или отклонение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какого либо государственного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оект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5052960" y="3554280"/>
              <a:ext cx="3647880" cy="123804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Избрание депутатов в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едставительные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органы власти или должностных 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лиц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сность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– открытость деятельности политических институтов, широкое информирование граждан о планах, намерениях, решениях, акциях всех органов государственной власт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емократ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ям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лебисцит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лияние граждан на процесс властвования ограничен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и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рание  представителей, представляющих интересы граждан в высших органах государственной в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арламентариз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1149120" y="1689120"/>
            <a:ext cx="6919560" cy="1703160"/>
            <a:chOff x="1149120" y="1689120"/>
            <a:chExt cx="6919560" cy="1703160"/>
          </a:xfrm>
        </p:grpSpPr>
        <p:cxnSp>
          <p:nvCxnSpPr>
            <p:cNvPr id="174" name="_s2052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686560" y="1068480"/>
              <a:ext cx="229320" cy="238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053"/>
            <p:cNvCxnSpPr>
              <a:stCxn id="178" idx="0"/>
              <a:endCxn id="176" idx="2"/>
            </p:cNvCxnSpPr>
            <p:nvPr/>
          </p:nvCxnSpPr>
          <p:spPr>
            <a:xfrm flipV="1">
              <a:off x="4609800" y="214560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054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304080" y="1068840"/>
              <a:ext cx="229320" cy="238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6" name="_s2055"/>
            <p:cNvSpPr/>
            <p:nvPr/>
          </p:nvSpPr>
          <p:spPr>
            <a:xfrm>
              <a:off x="2898720" y="1689120"/>
              <a:ext cx="3420720" cy="45720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99"/>
                  </a:solidFill>
                  <a:latin typeface="Tahoma"/>
                  <a:ea typeface="Arial"/>
                </a:rPr>
                <a:t>Принцип разделения власт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2056"/>
            <p:cNvSpPr/>
            <p:nvPr/>
          </p:nvSpPr>
          <p:spPr>
            <a:xfrm>
              <a:off x="114912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Законодатель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2057"/>
            <p:cNvSpPr/>
            <p:nvPr/>
          </p:nvSpPr>
          <p:spPr>
            <a:xfrm>
              <a:off x="353196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Исполнительная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2058"/>
            <p:cNvSpPr/>
            <p:nvPr/>
          </p:nvSpPr>
          <p:spPr>
            <a:xfrm>
              <a:off x="5914800" y="2374920"/>
              <a:ext cx="2153880" cy="1017360"/>
            </a:xfrm>
            <a:prstGeom prst="roundRect">
              <a:avLst>
                <a:gd name="adj" fmla="val 16667"/>
              </a:avLst>
            </a:prstGeom>
            <a:solidFill>
              <a:srgbClr val="2db3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Tahoma"/>
                  <a:ea typeface="Arial"/>
                </a:rPr>
                <a:t>Судебна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Rectangle 14"/>
          <p:cNvSpPr/>
          <p:nvPr/>
        </p:nvSpPr>
        <p:spPr>
          <a:xfrm>
            <a:off x="395280" y="386064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124000" y="4221000"/>
            <a:ext cx="456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10:38:11Z</dcterms:created>
  <dc:creator>User</dc:creator>
  <dc:description/>
  <dc:language>en-US</dc:language>
  <cp:lastModifiedBy>User</cp:lastModifiedBy>
  <dcterms:modified xsi:type="dcterms:W3CDTF">2020-05-17T08:33:31Z</dcterms:modified>
  <cp:revision>3</cp:revision>
  <dc:subject/>
  <dc:title>PowerPoint Presentation</dc:title>
</cp:coreProperties>
</file>